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4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6.png" ContentType="image/png"/>
  <Override PartName="/ppt/media/image19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32.jpeg" ContentType="image/jpeg"/>
  <Override PartName="/ppt/media/image51.png" ContentType="image/pn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25E01B-27C6-4A14-AF24-55DC5A629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1679D0-ED31-4225-9586-D9A6C1163F1F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51298F-ACA5-4680-9D6D-57AA9DA32797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D256F2-A2D2-4B3C-8477-9DBB9225AC31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3E8A07-CB16-4371-8452-4345E42DE30C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0DBF-571B-4EE1-8E19-66832FD4310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00C-4B94-4504-AF67-EB746810CCE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D2EC-3C14-48AB-9EFC-85AE7043109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855C-C186-4B8F-AEFD-624539114A7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1AF-1EBC-42D9-818A-3A54F70346F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639-D401-4A7E-A3A5-F36DD406385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1A1B-ED04-4215-8488-FE4230B4270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E47B-5E8C-40BD-9868-6EEB686AF1E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032F-CD6D-4C59-BF05-481EA3F2530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9A16-F6B4-47A5-93E5-B9B2AD3CF0B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6602-0F98-4B99-B105-2452C93C8F8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9431-BEC9-43C9-9487-886C71DB970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3FCC-11E3-4285-9DAF-CF4CB5623F9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F7188D-1BFC-4CB3-B3B5-D031CD2A45A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9B7-8E3A-44EB-9583-897FB2A04BE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F226-9B3A-45E1-8D2B-73F759BB56E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FF32-2F1F-4A4E-8C6A-AC9F936EC60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8A82-3742-4F9E-B9B7-B7C56B14651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4115-8FCA-4DF8-B85E-E5C10BC47BA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EB64-FD52-4A49-853B-E28EC3FC2E7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A261-3793-4F5D-B9F6-6180B1227A7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191D-1F3A-4E9B-8CF5-1469334BC61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0B18-2B72-42DA-BCC2-102C472A475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FE72-7844-41AC-96AF-4EF97437AB0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135AE1-3A8E-4CCE-A40A-9C3CE4E560FC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2E36-2317-432A-B9AF-45B4D1D5647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293A-E977-48B3-98DE-27C6117DC31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CC33-29D3-42C5-B6C8-FE2DA123FBD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2B3-096C-4124-A046-6827090C7E2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4584-285C-4A31-B1B8-E898A744ACA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F784-3D8B-4E7D-B70A-9E39D989BF1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F334-BEEC-44B0-AC28-3AEA467B411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B288BD-CA2C-4F6A-BB22-00EE83F7A05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C29BF2C4-CD21-437D-966C-5815A1DEB527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E7FE76A7-1321-4C4D-9E54-8082B239A71B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Num" idx="5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9EF7BF-6718-4A49-B809-BA454208424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21142355-FF34-4B4F-912D-CA4AF0182E61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DC00C13F-D778-42D7-8791-F44D08542828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D00A2F-3CA4-46C0-8906-814A2154C2EB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4550C8-2C6C-4B43-BD98-D46994679D98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39499E-8C9F-4CED-87D5-8CB736D51D4C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AFDF5F-B5D0-4492-84B4-2DD4C0E55F8B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B75-F1DA-4D8E-B50B-525FC600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95D-9BD0-4245-B6AA-DC7D6BDE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379-E9E3-4D23-A2AF-354297E3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9D9-9FA0-46DB-AD23-694A3A9A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C72F-2502-4E40-996A-50D7E948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0F55-C43C-4167-9C31-7AFE0F80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FA54-EC56-41B1-9E9F-61192BAA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008C-B571-4CC1-A5B7-4490255B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83F5-D599-473A-81B4-6C52FC19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3679-7CA3-4436-91C4-A6414B90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1DC7-8530-47DA-817A-1044FCC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2A8-494E-412C-970A-858C8F26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DA1B-3892-4029-8132-643C6917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6AEF-041E-41BE-AF7A-EEE3628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9C2F-0691-4F81-9D0B-AD218DF9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CDB9-D298-4D8D-86BD-211B75EF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313A-D269-4DB0-93FC-4AE2B125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EA72-1035-46EB-80DA-CA1B94DB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1C72-C4E1-4333-9C2B-C8D8AFF9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6BCA-B7BD-4FB9-88BA-198A162E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8228-CA47-4994-B490-AEE452EB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0D99-DA14-4FD6-AB28-BFDE235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C6E-DCDB-4CE7-9273-4E8A88D6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54D1-E08E-4419-8B82-77C534C8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30B3-880B-4302-A8C0-699B167C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63D1-A3A6-4848-803B-D7D6571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3D56-D098-471B-9CB7-14FF1F8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C3080-441F-4089-BBA9-CBBD53A2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8DCF-F473-4A24-89E4-E27260D3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B2EF-BE6E-4107-96A2-01249D12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CE7C-F71E-4B20-9AFC-5DF4C46C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D641-1EC2-49B5-ABC9-DFB7C99B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ECF6-060B-40F4-8384-F82600A2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C29-FF0F-4E13-AFA6-F7909ECD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5A280-E3C8-4D26-B141-B8419468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E7E9A-CDB9-4F4C-A451-9809FEE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34EA-8852-449F-BD2F-45541286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27E16-455B-4DD4-9437-FF48A3C1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AF03-BED4-47B5-8E6B-8DBDEB9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2D81-817C-4604-8578-225BB67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84B2-3A05-41AF-B9B2-262E1A43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B3AD-21D9-4C55-AC8D-0D8D0EF2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58B9-B70E-4D06-B507-3178562E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712-874E-4BB5-848C-2D185CB3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1E0-44BB-4A2E-8853-4BE4DC3D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8FC-6242-49F5-AA13-95C16ABA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938-ADAE-49FC-9724-65592CA4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3D0-A1AF-4BEB-9F7E-AFEF0FD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6A6120-C0D5-4823-AF20-5BCE38FFB9F7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FFA537-2615-4EAF-A442-FC2EE33F450E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1200E1-79FD-47C6-BD7A-B53786E0FB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519FC7-B72D-4D97-9416-23E7786BDF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2"/>
          <p:cNvSpPr/>
          <p:nvPr/>
        </p:nvSpPr>
        <p:spPr>
          <a:xfrm>
            <a:off x="436320" y="783720"/>
            <a:ext cx="827100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it-IT" sz="2400" spc="-1" strike="noStrike">
                <a:solidFill>
                  <a:srgbClr val="00b050"/>
                </a:solidFill>
                <a:latin typeface="Calibri"/>
              </a:rPr>
              <a:t>Piano Regionale della Prevenzione 2020-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iano Mirato di Prevenzione (P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relativo legato all’utilizzo di attrezzature agr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el settore agrico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4"/>
          <p:cNvSpPr/>
          <p:nvPr/>
        </p:nvSpPr>
        <p:spPr>
          <a:xfrm>
            <a:off x="725400" y="3285000"/>
            <a:ext cx="748836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SEMINARIO DI AVV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Gli infortuni in agricol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Data – ora                                                                Lu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sellaDiTesto 6"/>
          <p:cNvSpPr/>
          <p:nvPr/>
        </p:nvSpPr>
        <p:spPr>
          <a:xfrm>
            <a:off x="8100360" y="141480"/>
            <a:ext cx="10252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magine 7" descr=""/>
          <p:cNvPicPr/>
          <p:nvPr/>
        </p:nvPicPr>
        <p:blipFill>
          <a:blip r:embed="rId1"/>
          <a:stretch/>
        </p:blipFill>
        <p:spPr>
          <a:xfrm>
            <a:off x="-330840" y="11160"/>
            <a:ext cx="2843280" cy="728640"/>
          </a:xfrm>
          <a:prstGeom prst="rect">
            <a:avLst/>
          </a:prstGeom>
          <a:ln w="0">
            <a:noFill/>
          </a:ln>
        </p:spPr>
      </p:pic>
      <p:pic>
        <p:nvPicPr>
          <p:cNvPr id="174" name="Immagine 8" descr=""/>
          <p:cNvPicPr/>
          <p:nvPr/>
        </p:nvPicPr>
        <p:blipFill>
          <a:blip r:embed="rId2"/>
          <a:stretch/>
        </p:blipFill>
        <p:spPr>
          <a:xfrm>
            <a:off x="3780000" y="111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75" name="CasellaDiTesto 10"/>
          <p:cNvSpPr/>
          <p:nvPr/>
        </p:nvSpPr>
        <p:spPr>
          <a:xfrm>
            <a:off x="4212000" y="73800"/>
            <a:ext cx="18230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Capofi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sede di Oristano dello SPreSAL Zona C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34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ttangolo 2"/>
          <p:cNvSpPr/>
          <p:nvPr/>
        </p:nvSpPr>
        <p:spPr>
          <a:xfrm>
            <a:off x="323640" y="1268640"/>
            <a:ext cx="842472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lle difficoltà linguistiche si sovrappongono i fattori culturali legati alle conoscenze, esperienze, valori comuni diffusi in un popolo, influenzati peraltro dal contesto storico, politico e relig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minore diffusione della cultura della sicurezza del lavoro e la bassa percezione dell’esposizione al pericolo favorisce la maggiore accettazione del rischio lavorativo e la frequente mancanza di rispetto delle regole e delle procedure aziendali volte ad eliminare o ridurre al minimo il rischio. Vi è, infatti, una maggior propensione a “correre il rischio” nell’eseguire compiti in modo pericoloso, pur di apparire capaci di svolgere un comp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ttangolo arrotondato 7"/>
          <p:cNvSpPr/>
          <p:nvPr/>
        </p:nvSpPr>
        <p:spPr>
          <a:xfrm>
            <a:off x="647640" y="7250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avoratori stagionali e stran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908080" y="4365000"/>
            <a:ext cx="32554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ulteriore elemento da non sottovalutare è rappresentato dalle </a:t>
            </a:r>
            <a:r>
              <a:rPr b="0" lang="it-IT" sz="2200" spc="-1" strike="noStrike">
                <a:solidFill>
                  <a:srgbClr val="ff0000"/>
                </a:solidFill>
                <a:latin typeface="Calibri"/>
              </a:rPr>
              <a:t>usanze religiose, come il Ramadan, che possono esporre il lavoratore a maggiori rischi di infortunio, specialmente se le attività, come in agricoltura, si svolgono all’aperto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Nella fattispecie, il digiuno prolungato e la mancata assunzione di acqua durante le ore diurne, comporta un rapido affaticamento fisico e la disidratazione, che riducono la soglia di attenzione durante il lavor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166480" y="3645000"/>
            <a:ext cx="3867480" cy="20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43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tangolo 2"/>
          <p:cNvSpPr/>
          <p:nvPr/>
        </p:nvSpPr>
        <p:spPr>
          <a:xfrm>
            <a:off x="323640" y="1552680"/>
            <a:ext cx="8424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fine, un aspetto di rilievo è la minore possibilità di intercettazione del fenomeno infortunistico, per il fatto che, non di rado, gli immigrati sono soggetti a forme di lavoro sommerso con fenomeni di caporalato o, perfino, di vere e proprie forme di schiavitù, accettate con la speranza di poter migliorare il proprio status nel lungo ter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relazione a quanto esposto, nel presente Piano Mirato di Prevenzio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errà dedicata particolare attenzione a contrastare le disuguaglianze di salute nei lavoratori stagionali operanti in Sardegna in tale settore, con particolare riferimento a quelli strani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I lavoratori stranieri tra irregolarità e sfrut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Spesso accusati di rubare il lavoro agli italiani, in realtà gli stranieri fanno mediamente lavori meno qualificati e meno retribuiti. Oltre a subire più frequentemente sfruttamento e condizioni lavorative degradanti, come nel caso del caporal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ttangolo arrotondato 6"/>
          <p:cNvSpPr/>
          <p:nvPr/>
        </p:nvSpPr>
        <p:spPr>
          <a:xfrm>
            <a:off x="647640" y="7250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avoratori stagionali e stran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49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ttangolo 3"/>
          <p:cNvSpPr/>
          <p:nvPr/>
        </p:nvSpPr>
        <p:spPr>
          <a:xfrm>
            <a:off x="315000" y="1700640"/>
            <a:ext cx="884808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Dall’esame dei dati relativi agli infortuni mortali e gravi notificati agli SPreSAL dei Dipartimenti di Prevenzione sardi e inseriti dai medesimi nel Sistema di Sorveglianza Nazionale delle Infortuni Mortali e Gravi “Infor.Mo”, si rileva che il 22% riguarda il comparto agrico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Le lesioni maggiormente frequenti negli infortuni mortali e gravi in agricoltura so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schiacciamento (33 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fratture (32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ferite (14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amputazioni (1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Tra le modalità di accadimento degli eventi mortali e gravi in agricoltura, la casistica maggioritaria compre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variazione nella marcia di un veicolo/mezzo di trasporto (fuoriuscita dal percorso previsto, ribaltamento...) che rappresenta il 23% dei cas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contatto con organi lavoratori in movimento (18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contatto con altri oggetti, mezzi o veicoli in movimento (nella loro abituale se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avviamento inatteso/inopportuno di veico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ttangolo arrotondato 11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ipologia degli infortuni in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9800" y="625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"/>
          </a:bodyPr>
          <a:p>
            <a:pPr indent="0">
              <a:lnSpc>
                <a:spcPct val="100000"/>
              </a:lnSpc>
              <a:buNone/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chiacciamento (33 %);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fratture (32%);</a:t>
            </a:r>
            <a:br>
              <a:rPr sz="2700"/>
            </a:b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ferite (14%);</a:t>
            </a:r>
            <a:br>
              <a:rPr sz="4000"/>
            </a:br>
            <a:br>
              <a:rPr sz="4000"/>
            </a:br>
            <a:r>
              <a:rPr b="0" lang="it-IT" sz="3100" spc="-1" strike="noStrike">
                <a:solidFill>
                  <a:srgbClr val="000000"/>
                </a:solidFill>
                <a:latin typeface="Calibri"/>
              </a:rPr>
              <a:t>amputazioni (10%).</a:t>
            </a:r>
            <a:br>
              <a:rPr sz="3100"/>
            </a:br>
            <a:br>
              <a:rPr sz="4000"/>
            </a:br>
            <a:endParaRPr b="0" lang="it-IT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148000" y="188640"/>
            <a:ext cx="3695400" cy="201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5148000" y="2421000"/>
            <a:ext cx="3530520" cy="180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877360" y="4941000"/>
            <a:ext cx="2801160" cy="1382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3636000" y="4932720"/>
            <a:ext cx="2027160" cy="13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arrotondato 13"/>
          <p:cNvSpPr/>
          <p:nvPr/>
        </p:nvSpPr>
        <p:spPr>
          <a:xfrm>
            <a:off x="753480" y="1340640"/>
            <a:ext cx="76345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61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tangolo 2"/>
          <p:cNvSpPr/>
          <p:nvPr/>
        </p:nvSpPr>
        <p:spPr>
          <a:xfrm>
            <a:off x="578160" y="2061000"/>
            <a:ext cx="79110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er quanto concerne il settore agricolo, dai dati ISTAT (Rilevazione sulle forze di lavoro) risultano, per l'anno 2019 in Sardegna, 33.000 occupati in agricol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l Censimento Agricoltura realizzato dall’ISTAT nel 2010 si rilevano un totale di 60.812 aziende agric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ll'Annuario Statistico Italiano 2019, risulta che nel 2016 - considerato il campo di osservazione UE che esclude le unità più piccole che, complessivamente, rappresentano non più del 2% della SAU e non più del 2% del totale delle unità di bestiame - risulta un numero di aziende agricole in Sardegna pari 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48.511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 una superficie complessiva di 1.463.957 ettari, di cui superficie agricola utilizzata (SAU) 1.187.624 ett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tangolo 7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erché avvengono gli infortuni ?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 flipV="1">
            <a:off x="0" y="475560"/>
            <a:ext cx="9126360" cy="453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ttangolo 3"/>
          <p:cNvSpPr/>
          <p:nvPr/>
        </p:nvSpPr>
        <p:spPr>
          <a:xfrm>
            <a:off x="-22680" y="531720"/>
            <a:ext cx="914364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2000" spc="-1" strike="noStrike">
                <a:solidFill>
                  <a:srgbClr val="376092"/>
                </a:solidFill>
                <a:latin typeface="Calibri"/>
              </a:rPr>
              <a:t>SEMINARIO DI AV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1600" spc="-1" strike="noStrike">
                <a:solidFill>
                  <a:srgbClr val="376092"/>
                </a:solidFill>
                <a:latin typeface="Calibri"/>
              </a:rPr>
              <a:t>PIANO MIRATO DI PREVEN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it-IT" sz="1600" spc="-1" strike="noStrike">
                <a:solidFill>
                  <a:srgbClr val="376092"/>
                </a:solidFill>
                <a:latin typeface="Calibri"/>
              </a:rPr>
              <a:t>relativo al rischio legato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376092"/>
                </a:solidFill>
                <a:latin typeface="Calibri"/>
              </a:rPr>
              <a:t>all’utilizzo di attrezzature agricole nel settore agricol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it-IT" sz="2000" spc="-1" strike="noStrike" u="sng">
                <a:solidFill>
                  <a:srgbClr val="376092"/>
                </a:solidFill>
                <a:uFillTx/>
                <a:latin typeface="Calibri"/>
              </a:rPr>
              <a:t>Programma della gior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Tabella 4"/>
          <p:cNvGraphicFramePr/>
          <p:nvPr/>
        </p:nvGraphicFramePr>
        <p:xfrm>
          <a:off x="0" y="1784880"/>
          <a:ext cx="9143640" cy="4692240"/>
        </p:xfrm>
        <a:graphic>
          <a:graphicData uri="http://schemas.openxmlformats.org/drawingml/2006/table">
            <a:tbl>
              <a:tblPr/>
              <a:tblGrid>
                <a:gridCol w="1530360"/>
                <a:gridCol w="5400360"/>
                <a:gridCol w="221292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1163520"/>
                        </a:tabLst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rgo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lato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SPreSAL sede di ________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ccoglienza e registrazione pres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aluti e presenta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 Piani Mirati di Prevenzione nell’ambito del Piano Nazionale della Prevenzione e del Piano Regionale della Prevenzione 2020-20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li infortuni in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Piano Mirato di Prevenzione (PMP) del rischio legato all’utilizzo di attrezzature agricole nel settore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6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Documento di buone pratiche del PMP del rischio legato all’utilizzo di attrezzature agricole nel settore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 Scheda di autovalutazione aziendale del PMP del rischio legato all’utilizzo di attrezzature agricole nel settore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6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azio per domande e discu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pic>
        <p:nvPicPr>
          <p:cNvPr id="179" name="Immagine 5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7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tangolo con angoli arrotondati 3"/>
          <p:cNvSpPr/>
          <p:nvPr/>
        </p:nvSpPr>
        <p:spPr>
          <a:xfrm>
            <a:off x="17280" y="3956040"/>
            <a:ext cx="9103680" cy="40860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ttangolo 9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ttangolo arrotondato 13"/>
          <p:cNvSpPr/>
          <p:nvPr/>
        </p:nvSpPr>
        <p:spPr>
          <a:xfrm>
            <a:off x="683640" y="1187280"/>
            <a:ext cx="7848360" cy="520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li infortuni in agrico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827640" y="2889360"/>
            <a:ext cx="7560360" cy="2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onostante nell’ultima decade in Sardegna i trend infortunistici siano decrescenti, dall’esame dei dati dei Flussi Informativi INAIL-Regioni, emerge che nel 2019 (così come nei precedenti anni), i settori con la frequenza più elevata di infortuni gravi in occasione di lavoro definiti positivamente continuano a essere quello dell’agricoltura e quello delle costruzioni, che rappresentano rispettivamente il 21,9% e l’11,5% del totale di quelli dell’anno 2019 (n. 23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fine di delineare elementi di disequità di salute, i suddetti dati infortunistici sono stati stratificati per nazionalità dei lavoratori e per fascia d’età e gen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ttangolo 7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"/>
          <p:cNvPicPr/>
          <p:nvPr/>
        </p:nvPicPr>
        <p:blipFill>
          <a:blip r:embed="rId1"/>
          <a:stretch/>
        </p:blipFill>
        <p:spPr>
          <a:xfrm>
            <a:off x="0" y="17640"/>
            <a:ext cx="914364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ttangolo arrotondato 13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li infortuni in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92" name="CasellaDiTesto 12"/>
          <p:cNvSpPr/>
          <p:nvPr/>
        </p:nvSpPr>
        <p:spPr>
          <a:xfrm>
            <a:off x="467640" y="2160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magine 8" descr=""/>
          <p:cNvPicPr/>
          <p:nvPr/>
        </p:nvPicPr>
        <p:blipFill>
          <a:blip r:embed="rId2"/>
          <a:stretch/>
        </p:blipFill>
        <p:spPr>
          <a:xfrm>
            <a:off x="1040040" y="3313080"/>
            <a:ext cx="6444360" cy="2874960"/>
          </a:xfrm>
          <a:prstGeom prst="rect">
            <a:avLst/>
          </a:prstGeom>
          <a:ln w="0">
            <a:noFill/>
          </a:ln>
        </p:spPr>
      </p:pic>
      <p:sp>
        <p:nvSpPr>
          <p:cNvPr id="194" name="Rettangolo 10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2"/>
          <p:cNvSpPr/>
          <p:nvPr/>
        </p:nvSpPr>
        <p:spPr>
          <a:xfrm>
            <a:off x="1526040" y="6291000"/>
            <a:ext cx="54723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Fonte: Elaborazioni su dati dei </a:t>
            </a:r>
            <a:r>
              <a:rPr b="0" i="1" lang="it-IT" sz="1000" spc="-1" strike="noStrike">
                <a:solidFill>
                  <a:srgbClr val="000000"/>
                </a:solidFill>
                <a:latin typeface="Calibri"/>
              </a:rPr>
              <a:t>Flussi Informativi INAIL-Regioni (Ultimo Aggiornamento Aprile 202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63640" y="1649880"/>
            <a:ext cx="7560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onostante nell’ultima decade in Sardegna i trend infortunistici siano decrescenti, dall’esame dei dati dei Flussi Informativi INAIL-Regioni, emerge che nel 2019 (così come nei precedenti anni), i settori con la frequenza più elevata di infortuni gravi in occasione di lavoro definiti positivamente continuano a essere quello dell’agricoltura e quello delle costruzioni, che rappresentano rispettivamente il 21,9% e l’11,5% del totale di quelli dell’anno 2019 (n. 23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684360" y="333360"/>
            <a:ext cx="7919640" cy="1186920"/>
          </a:xfrm>
          <a:custGeom>
            <a:avLst/>
            <a:gdLst/>
            <a:ahLst/>
            <a:rect l="l" t="t" r="r" b="b"/>
            <a:pathLst>
              <a:path w="22001" h="3299">
                <a:moveTo>
                  <a:pt x="0" y="0"/>
                </a:moveTo>
                <a:lnTo>
                  <a:pt x="22001" y="0"/>
                </a:lnTo>
                <a:lnTo>
                  <a:pt x="22001" y="3299"/>
                </a:lnTo>
                <a:lnTo>
                  <a:pt x="0" y="3299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Aziende agricole e zootecniche fino a 30 lavorator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il Datore di lavoro può svolgere direttamente i compiti prop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del servizio di prevenzione e protezione d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rischi, in questo caso, deve frequentare corsi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Group 2"/>
          <p:cNvGraphicFramePr/>
          <p:nvPr/>
        </p:nvGraphicFramePr>
        <p:xfrm>
          <a:off x="684360" y="1700280"/>
          <a:ext cx="8027640" cy="5013000"/>
        </p:xfrm>
        <a:graphic>
          <a:graphicData uri="http://schemas.openxmlformats.org/drawingml/2006/table">
            <a:tbl>
              <a:tblPr/>
              <a:tblGrid>
                <a:gridCol w="3867840"/>
                <a:gridCol w="4159800"/>
              </a:tblGrid>
              <a:tr h="2091960"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.L che alla data di entrata in vigore dell’Accordo Stato – Regioni (11.01.12) avevano effettuato formazione dai contenuti conformi all’art. 3 del DM 16/01/1997 corso di 16 ore per Datori di Lavoro RS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marL="216000" indent="-216000"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Aggiornamento entro 5 anni dalla pubblicazione Acco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buSzPct val="111047"/>
                        <a:buBlip>
                          <a:blip r:embed="rId1"/>
                        </a:buBlip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Microsoft YaHei"/>
                        </a:rPr>
                        <a:t>11.01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uccessivi aggiornamenti quinquen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1493640"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.L. esonerati dalla formazione ai sensi dell’art. 95 delD.Lgs.626/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marL="216000" indent="-216000"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mpletare il primo aggior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buSzPct val="132942"/>
                        <a:buBlip>
                          <a:blip r:embed="rId2"/>
                        </a:buBlip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</a:t>
                      </a:r>
                      <a:r>
                        <a:rPr b="0" lang="it-IT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Microsoft YaHei"/>
                        </a:rPr>
                        <a:t>11.01.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uccessivi aggiornamenti quinquen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1427040"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In caso di nuova attiv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90 giorni dalla data di inizio della propria attività corso di durata  di 32 ore (rischio medio) e aggiornamento quinquen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1"/>
          <p:cNvSpPr/>
          <p:nvPr/>
        </p:nvSpPr>
        <p:spPr>
          <a:xfrm>
            <a:off x="590400" y="2492280"/>
            <a:ext cx="7919640" cy="1552320"/>
          </a:xfrm>
          <a:custGeom>
            <a:avLst/>
            <a:gdLst/>
            <a:ahLst/>
            <a:rect l="l" t="t" r="r" b="b"/>
            <a:pathLst>
              <a:path w="22001" h="4315">
                <a:moveTo>
                  <a:pt x="0" y="0"/>
                </a:moveTo>
                <a:lnTo>
                  <a:pt x="22001" y="0"/>
                </a:lnTo>
                <a:lnTo>
                  <a:pt x="22001" y="4315"/>
                </a:lnTo>
                <a:lnTo>
                  <a:pt x="0" y="4315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Persona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apacità ed i requisiti professionali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lla natura dei rischi presenti sul luogo di lavoro e relativi 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ttività lavorative, in possesso di un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titolo di  studio non inferi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l diploma di istruzione secondaria superiore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nonché di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ttes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Di frequenza, a specifici corsi di formazione in materi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Prevenzione  e protezione dei ris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590400" y="1123920"/>
            <a:ext cx="7919640" cy="455400"/>
          </a:xfrm>
          <a:custGeom>
            <a:avLst/>
            <a:gdLst/>
            <a:ahLst/>
            <a:rect l="l" t="t" r="r" b="b"/>
            <a:pathLst>
              <a:path w="22001" h="1267">
                <a:moveTo>
                  <a:pt x="0" y="0"/>
                </a:moveTo>
                <a:lnTo>
                  <a:pt x="22001" y="0"/>
                </a:lnTo>
                <a:lnTo>
                  <a:pt x="22001" y="1267"/>
                </a:lnTo>
                <a:lnTo>
                  <a:pt x="0" y="1267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RSPP DIVERSO DAL DATORE DI LAVORO ESTERNO O INT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LL’ AZ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393840" y="907920"/>
            <a:ext cx="8392680" cy="942480"/>
          </a:xfrm>
          <a:custGeom>
            <a:avLst/>
            <a:gdLst/>
            <a:ahLst/>
            <a:rect l="l" t="t" r="r" b="b"/>
            <a:pathLst>
              <a:path w="23314" h="2621">
                <a:moveTo>
                  <a:pt x="0" y="0"/>
                </a:moveTo>
                <a:lnTo>
                  <a:pt x="23314" y="0"/>
                </a:lnTo>
                <a:lnTo>
                  <a:pt x="23314" y="2621"/>
                </a:lnTo>
                <a:lnTo>
                  <a:pt x="0" y="2621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Designazione dei lavoratori incaricati dell’attuazione 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misure di prevenzione incendi e lotta antincendio,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rimo socco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Group 2"/>
          <p:cNvGraphicFramePr/>
          <p:nvPr/>
        </p:nvGraphicFramePr>
        <p:xfrm>
          <a:off x="385920" y="3213000"/>
          <a:ext cx="8365680" cy="2478960"/>
        </p:xfrm>
        <a:graphic>
          <a:graphicData uri="http://schemas.openxmlformats.org/drawingml/2006/table">
            <a:tbl>
              <a:tblPr/>
              <a:tblGrid>
                <a:gridCol w="2420640"/>
                <a:gridCol w="1858680"/>
                <a:gridCol w="2138400"/>
                <a:gridCol w="1584000"/>
                <a:gridCol w="363240"/>
              </a:tblGrid>
              <a:tr h="1521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FORMAZIONE PRIMO SOCCO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OLTRE 5 LAVORATORI A TEMPO INDETERMIN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URATA 16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EGLI ALTRI C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URATA 12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93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FORMAZIONE PREVENZIONE INCENDI E LOTTA ANTINCEN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RISCHIOB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4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RISCHIO 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8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RISCHIO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16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96" name="AutoShape 13"/>
          <p:cNvSpPr/>
          <p:nvPr/>
        </p:nvSpPr>
        <p:spPr>
          <a:xfrm>
            <a:off x="539640" y="1851120"/>
            <a:ext cx="8251560" cy="1001520"/>
          </a:xfrm>
          <a:custGeom>
            <a:avLst/>
            <a:gdLst/>
            <a:ahLst/>
            <a:rect l="l" t="t" r="r" b="b"/>
            <a:pathLst>
              <a:path w="23232" h="2283">
                <a:moveTo>
                  <a:pt x="0" y="0"/>
                </a:moveTo>
                <a:lnTo>
                  <a:pt x="23232" y="0"/>
                </a:lnTo>
                <a:lnTo>
                  <a:pt x="23232" y="2283"/>
                </a:lnTo>
                <a:lnTo>
                  <a:pt x="0" y="2283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Aziende agricole e zootecniche fino a 30lavoratori  il Datore di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 </a:t>
            </a: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uò svolgere direttamente i compiti propri </a:t>
            </a: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revenzione incendi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lotta antincendio, di primo soccorso  solo se in possesso di 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4"/>
          <p:cNvSpPr/>
          <p:nvPr/>
        </p:nvSpPr>
        <p:spPr>
          <a:xfrm>
            <a:off x="393840" y="247680"/>
            <a:ext cx="3746160" cy="577440"/>
          </a:xfrm>
          <a:custGeom>
            <a:avLst/>
            <a:gdLst/>
            <a:ahLst/>
            <a:rect l="l" t="t" r="r" b="b"/>
            <a:pathLst>
              <a:path w="7400" h="1605">
                <a:moveTo>
                  <a:pt x="0" y="0"/>
                </a:moveTo>
                <a:lnTo>
                  <a:pt x="7400" y="0"/>
                </a:lnTo>
                <a:lnTo>
                  <a:pt x="7400" y="1605"/>
                </a:lnTo>
                <a:lnTo>
                  <a:pt x="0" y="1605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OBBLIGO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1"/>
          <p:cNvSpPr/>
          <p:nvPr/>
        </p:nvSpPr>
        <p:spPr>
          <a:xfrm>
            <a:off x="382680" y="1123920"/>
            <a:ext cx="8208720" cy="820440"/>
          </a:xfrm>
          <a:custGeom>
            <a:avLst/>
            <a:gdLst/>
            <a:ahLst/>
            <a:rect l="l" t="t" r="r" b="b"/>
            <a:pathLst>
              <a:path w="22802" h="2283">
                <a:moveTo>
                  <a:pt x="0" y="0"/>
                </a:moveTo>
                <a:lnTo>
                  <a:pt x="22802" y="0"/>
                </a:lnTo>
                <a:lnTo>
                  <a:pt x="22802" y="2283"/>
                </a:lnTo>
                <a:lnTo>
                  <a:pt x="0" y="2283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ttività diretta a  far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pprendere ai lavoratori l’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orretto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di attrezzature, macchine, impianti, sostanze, dispositiv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nche di protezione individ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2943360" y="404640"/>
            <a:ext cx="3188880" cy="515520"/>
          </a:xfrm>
          <a:custGeom>
            <a:avLst/>
            <a:gdLst/>
            <a:ahLst/>
            <a:rect l="l" t="t" r="r" b="b"/>
            <a:pathLst>
              <a:path w="8859" h="1436">
                <a:moveTo>
                  <a:pt x="0" y="0"/>
                </a:moveTo>
                <a:lnTo>
                  <a:pt x="8859" y="0"/>
                </a:lnTo>
                <a:lnTo>
                  <a:pt x="8859" y="1436"/>
                </a:lnTo>
                <a:lnTo>
                  <a:pt x="0" y="1436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Microsoft YaHei"/>
              </a:rPr>
              <a:t>ADDEST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406440" y="2654280"/>
            <a:ext cx="8121240" cy="820440"/>
          </a:xfrm>
          <a:custGeom>
            <a:avLst/>
            <a:gdLst/>
            <a:ahLst/>
            <a:rect l="l" t="t" r="r" b="b"/>
            <a:pathLst>
              <a:path w="22563" h="2283">
                <a:moveTo>
                  <a:pt x="0" y="0"/>
                </a:moveTo>
                <a:lnTo>
                  <a:pt x="22563" y="0"/>
                </a:lnTo>
                <a:lnTo>
                  <a:pt x="22563" y="2283"/>
                </a:lnTo>
                <a:lnTo>
                  <a:pt x="0" y="2283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L’accordo stato-regioni del 22 febbraio 2012 sancis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l’obbligo di specifica abilitazione professionale degli ope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ddetti all’uso del trattore agricolo o fores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1619280" y="4221000"/>
            <a:ext cx="5832000" cy="1918800"/>
          </a:xfrm>
          <a:custGeom>
            <a:avLst/>
            <a:gdLst/>
            <a:ahLst/>
            <a:rect l="l" t="t" r="r" b="b"/>
            <a:pathLst>
              <a:path w="16201" h="5331">
                <a:moveTo>
                  <a:pt x="0" y="0"/>
                </a:moveTo>
                <a:lnTo>
                  <a:pt x="16201" y="0"/>
                </a:lnTo>
                <a:lnTo>
                  <a:pt x="16201" y="5331"/>
                </a:lnTo>
                <a:lnTo>
                  <a:pt x="0" y="5331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orso specifico della durata di 8 -13 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Modulo giuri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Modulo te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Modulo p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                                                       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Verifica finale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1"/>
          <p:cNvSpPr/>
          <p:nvPr/>
        </p:nvSpPr>
        <p:spPr>
          <a:xfrm>
            <a:off x="611280" y="404640"/>
            <a:ext cx="7775280" cy="455400"/>
          </a:xfrm>
          <a:custGeom>
            <a:avLst/>
            <a:gdLst/>
            <a:ahLst/>
            <a:rect l="l" t="t" r="r" b="b"/>
            <a:pathLst>
              <a:path w="21601" h="1267">
                <a:moveTo>
                  <a:pt x="0" y="0"/>
                </a:moveTo>
                <a:lnTo>
                  <a:pt x="21601" y="0"/>
                </a:lnTo>
                <a:lnTo>
                  <a:pt x="21601" y="1267"/>
                </a:lnTo>
                <a:lnTo>
                  <a:pt x="0" y="1267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HI E QUANDO DEVE CONSEGUIRE L’ABILI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Group 2"/>
          <p:cNvGraphicFramePr/>
          <p:nvPr/>
        </p:nvGraphicFramePr>
        <p:xfrm>
          <a:off x="324000" y="1052640"/>
          <a:ext cx="8426160" cy="5395680"/>
        </p:xfrm>
        <a:graphic>
          <a:graphicData uri="http://schemas.openxmlformats.org/drawingml/2006/table">
            <a:tbl>
              <a:tblPr/>
              <a:tblGrid>
                <a:gridCol w="3643200"/>
                <a:gridCol w="1974600"/>
                <a:gridCol w="280800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OPERATORI CHE AL 31.12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RSO DIFORM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AGGIORNA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228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N sono addetti alla conduzione del trattore agricolo o forestale e NON hanno nessuno dei requisiti (esperienza documentata o form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Prima dell’utili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5 anni dall’avvenuta form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228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ono GIÀ addetti alla conduzione del trattore agricolo o forestale, ma NON hanno nessuno dei requisiti (esperienza documentata o form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31-12-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5 anni dall’avvenuta form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04" name="AutoShape 12"/>
          <p:cNvSpPr/>
          <p:nvPr/>
        </p:nvSpPr>
        <p:spPr>
          <a:xfrm>
            <a:off x="6948360" y="6453360"/>
            <a:ext cx="2015640" cy="286920"/>
          </a:xfrm>
          <a:custGeom>
            <a:avLst/>
            <a:gdLst/>
            <a:ahLst/>
            <a:rect l="l" t="t" r="r" b="b"/>
            <a:pathLst>
              <a:path w="5600" h="7320">
                <a:moveTo>
                  <a:pt x="0" y="4060"/>
                </a:moveTo>
                <a:lnTo>
                  <a:pt x="1159" y="4060"/>
                </a:lnTo>
                <a:lnTo>
                  <a:pt x="1159" y="0"/>
                </a:lnTo>
                <a:lnTo>
                  <a:pt x="5600" y="400"/>
                </a:lnTo>
                <a:lnTo>
                  <a:pt x="1159" y="799"/>
                </a:lnTo>
                <a:lnTo>
                  <a:pt x="1159" y="-3260"/>
                </a:lnTo>
                <a:lnTo>
                  <a:pt x="0" y="-3260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Group 1"/>
          <p:cNvGraphicFramePr/>
          <p:nvPr/>
        </p:nvGraphicFramePr>
        <p:xfrm>
          <a:off x="324000" y="765000"/>
          <a:ext cx="8497440" cy="5822640"/>
        </p:xfrm>
        <a:graphic>
          <a:graphicData uri="http://schemas.openxmlformats.org/drawingml/2006/table">
            <a:tbl>
              <a:tblPr/>
              <a:tblGrid>
                <a:gridCol w="3876480"/>
                <a:gridCol w="2028600"/>
                <a:gridCol w="2592360"/>
              </a:tblGrid>
              <a:tr h="807840">
                <a:tc>
                  <a:txBody>
                    <a:bodyPr tIns="61560" bIns="45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RSO DI FORM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AGGIOR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15832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ono addetti alla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nduzione</a:t>
                      </a: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 e hanno esperienza documentata almeno pari a 2 an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13-03-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15832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Hanno una formazione pregressa NON equiparabile a quella prevista dall’Accordo del 22/02/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31-12-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184752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Hanno una formazione pregressa equiparabile a quella prevista dall’Accordo del 22/02/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31-12-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611280" y="692280"/>
            <a:ext cx="7992720" cy="1944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684360" y="1197000"/>
            <a:ext cx="76323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856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611280" y="1857240"/>
            <a:ext cx="7885800" cy="416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856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467640" y="1643040"/>
            <a:ext cx="8496720" cy="5085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856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0" y="2071800"/>
            <a:ext cx="9143640" cy="1642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3"/>
          <a:stretch/>
        </p:blipFill>
        <p:spPr>
          <a:xfrm>
            <a:off x="0" y="3500280"/>
            <a:ext cx="9143640" cy="1785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ttangolo arrotondato 13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li infortuni in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0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tangolo 1"/>
          <p:cNvSpPr/>
          <p:nvPr/>
        </p:nvSpPr>
        <p:spPr>
          <a:xfrm flipH="1" flipV="1" rot="10800000">
            <a:off x="827280" y="1922040"/>
            <a:ext cx="7416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Poiché nel settore agricolo la frequenza degli infortuni e soprattutto la gravità degli stessi è quindi tuttora elevata, si rende necessario intervenire prioritariamente sui determinanti di tali infortuni, orientando uno specifico </a:t>
            </a:r>
            <a:r>
              <a:rPr b="1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Piano Mirato di Prevenzione (PMP) sui rischi legati all’uso delle attrezzature agricole </a:t>
            </a: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(quali trattori, motozappatrici, motoseghe, decespugliatori, cesoie, seghe, attrezzature di taglio, ecc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Il gruppo di interesse per questo PMP è costituito dalle aziende agricole, comprese le aziende zootecniche e florovivaistiche, e dai coltivatori diret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tangolo 10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3"/>
          <p:cNvSpPr/>
          <p:nvPr/>
        </p:nvSpPr>
        <p:spPr>
          <a:xfrm>
            <a:off x="609480" y="119664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28600" y="1349280"/>
            <a:ext cx="8915040" cy="86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2"/>
          <a:stretch/>
        </p:blipFill>
        <p:spPr>
          <a:xfrm>
            <a:off x="539640" y="1928880"/>
            <a:ext cx="3746160" cy="4308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3"/>
          <a:stretch/>
        </p:blipFill>
        <p:spPr>
          <a:xfrm>
            <a:off x="5168880" y="2000160"/>
            <a:ext cx="3147120" cy="4143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3"/>
          <p:cNvSpPr/>
          <p:nvPr/>
        </p:nvSpPr>
        <p:spPr>
          <a:xfrm>
            <a:off x="609480" y="10666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971640" y="1928880"/>
            <a:ext cx="7704360" cy="1540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3"/>
          <a:stretch/>
        </p:blipFill>
        <p:spPr>
          <a:xfrm>
            <a:off x="609480" y="3643200"/>
            <a:ext cx="8066520" cy="252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0" y="189000"/>
            <a:ext cx="896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"/>
          <p:cNvSpPr/>
          <p:nvPr/>
        </p:nvSpPr>
        <p:spPr>
          <a:xfrm>
            <a:off x="609480" y="10666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755640" y="1928880"/>
            <a:ext cx="7848360" cy="423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24000" y="189000"/>
            <a:ext cx="864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"/>
          <p:cNvSpPr/>
          <p:nvPr/>
        </p:nvSpPr>
        <p:spPr>
          <a:xfrm>
            <a:off x="609480" y="10666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2"/>
          <a:stretch/>
        </p:blipFill>
        <p:spPr>
          <a:xfrm>
            <a:off x="899640" y="2286000"/>
            <a:ext cx="7272360" cy="340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857160" y="2000160"/>
            <a:ext cx="7429320" cy="485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1763640" y="1928880"/>
            <a:ext cx="6022800" cy="4617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763640" y="1857240"/>
            <a:ext cx="5665320" cy="4455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071720" y="2000160"/>
            <a:ext cx="7429320" cy="485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11280" y="189000"/>
            <a:ext cx="83530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609480" y="12682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68360" y="1233360"/>
            <a:ext cx="828000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endParaRPr b="1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3640" cy="492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Tabella 1"/>
          <p:cNvGraphicFramePr/>
          <p:nvPr/>
        </p:nvGraphicFramePr>
        <p:xfrm>
          <a:off x="0" y="1268640"/>
          <a:ext cx="9143640" cy="4392000"/>
        </p:xfrm>
        <a:graphic>
          <a:graphicData uri="http://schemas.openxmlformats.org/drawingml/2006/table">
            <a:tbl>
              <a:tblPr/>
              <a:tblGrid>
                <a:gridCol w="476280"/>
                <a:gridCol w="424620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rb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agricole e produzione di prodotti animali, caccia e servizi connes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colture agricole non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di colture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iproduzione delle p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ani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agricole associate all'allevamento di animali: attività m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064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i supporto all'agricoltura e attività successive alla racco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accia, cattura di animali e servizi connes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cereali (escluso il riso), legumi da granella e sem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r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ortaggi e meloni, radici e tube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iante per la preparazione di fibre tess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loricoltura e coltivazione di altre colture non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46" name="Rettangolo arrotondato 2"/>
          <p:cNvSpPr/>
          <p:nvPr/>
        </p:nvSpPr>
        <p:spPr>
          <a:xfrm>
            <a:off x="467640" y="404640"/>
            <a:ext cx="82807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ttangolo arrotondato 13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isequità nel settore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6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1"/>
          <p:cNvSpPr/>
          <p:nvPr/>
        </p:nvSpPr>
        <p:spPr>
          <a:xfrm flipH="1" flipV="1" rot="10800000">
            <a:off x="827280" y="2677320"/>
            <a:ext cx="7596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Dalla stessa analisi quantitativa si è rilevato, tra l’altro, che nel settore agricoltura in Sardegna, mentre per i lavoratori autoctoni gli infortuni denunciati e gli infortuni definiti positivamente presentano trend decrescenti, per i lavoratori stranieri si osservano andamenti pressoché costanti dal 2008 al 20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tangolo 10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tangolo 11"/>
          <p:cNvSpPr/>
          <p:nvPr/>
        </p:nvSpPr>
        <p:spPr>
          <a:xfrm>
            <a:off x="660600" y="2031120"/>
            <a:ext cx="777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 fine di delineare elementi di dissequità di salute, i suddetti dati infortunistici sono stati stratificati per nazionalità dei lavoratori e per fascia d’età e gen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Tabella 1"/>
          <p:cNvGraphicFramePr/>
          <p:nvPr/>
        </p:nvGraphicFramePr>
        <p:xfrm>
          <a:off x="0" y="1268640"/>
          <a:ext cx="9143640" cy="4170960"/>
        </p:xfrm>
        <a:graphic>
          <a:graphicData uri="http://schemas.openxmlformats.org/drawingml/2006/table">
            <a:tbl>
              <a:tblPr/>
              <a:tblGrid>
                <a:gridCol w="539280"/>
                <a:gridCol w="418320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3747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u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rutta di origine tropicale e subtropi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agru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omacee e frutta a nocci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altri alberi da frutta, frutti di bosco e in gus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rutt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iante per la produzione di bev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spezie, piante aromatiche e farmaceu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altre colture permanenti (inclusi alberi di Nata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bovini e bufale da latte, produzione di latte cru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bovini e bufalini da car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cavalli e altri equ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ovini e capr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su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poll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altri ani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348" name="Rettangolo arrotondato 2"/>
          <p:cNvSpPr/>
          <p:nvPr/>
        </p:nvSpPr>
        <p:spPr>
          <a:xfrm>
            <a:off x="467640" y="404640"/>
            <a:ext cx="8280720" cy="431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Tabella 1"/>
          <p:cNvGraphicFramePr/>
          <p:nvPr/>
        </p:nvGraphicFramePr>
        <p:xfrm>
          <a:off x="0" y="1484640"/>
          <a:ext cx="9143640" cy="3913920"/>
        </p:xfrm>
        <a:graphic>
          <a:graphicData uri="http://schemas.openxmlformats.org/drawingml/2006/table">
            <a:tbl>
              <a:tblPr/>
              <a:tblGrid>
                <a:gridCol w="467280"/>
                <a:gridCol w="425520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423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rb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i supporto alla produzione vege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3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i supporto alla produzione animale (esclusi i servizi veterinar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che seguono la racco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cereali (escluso il ris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sem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legumi da granel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miste di cereali, legumi da granella e sem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34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ortaggi (inclusi i meloni) in foglia, a fusto, a frutto, in radici, bulbi e tuberi in piena aria (escluse barbabietola da zucchero e pat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34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ortaggi (inclusi i meloni) in foglia, a fusto, a frutto, in radici, bulbi e tuberi in colture protette (escluse barbabietola da zucchero e pat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barbabietola da zucch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a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50" name="Rettangolo arrotondato 2"/>
          <p:cNvSpPr/>
          <p:nvPr/>
        </p:nvSpPr>
        <p:spPr>
          <a:xfrm>
            <a:off x="467640" y="404640"/>
            <a:ext cx="83527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Tabella 1"/>
          <p:cNvGraphicFramePr/>
          <p:nvPr/>
        </p:nvGraphicFramePr>
        <p:xfrm>
          <a:off x="0" y="1700640"/>
          <a:ext cx="9143640" cy="3888000"/>
        </p:xfrm>
        <a:graphic>
          <a:graphicData uri="http://schemas.openxmlformats.org/drawingml/2006/table">
            <a:tbl>
              <a:tblPr/>
              <a:tblGrid>
                <a:gridCol w="650520"/>
                <a:gridCol w="407196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4492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rb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iori in piena 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iori in colture prote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05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iante da foraggio e di altre colture non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conig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ico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chico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altri animali 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ei maniscal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492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tre attività di supporto alla produzione animale (esclusi i servizi veterinar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ulitura e cernita di semi e granag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tre lavorazioni delle sementi per la sem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dice ATECO non inser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983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TOT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5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52" name="Rettangolo arrotondato 2"/>
          <p:cNvSpPr/>
          <p:nvPr/>
        </p:nvSpPr>
        <p:spPr>
          <a:xfrm>
            <a:off x="467640" y="404640"/>
            <a:ext cx="83527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asellaDiTesto 3"/>
          <p:cNvSpPr/>
          <p:nvPr/>
        </p:nvSpPr>
        <p:spPr>
          <a:xfrm>
            <a:off x="3348000" y="6024960"/>
            <a:ext cx="46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otale complessivo: 374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12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7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magine 13" descr=""/>
          <p:cNvPicPr/>
          <p:nvPr/>
        </p:nvPicPr>
        <p:blipFill>
          <a:blip r:embed="rId2"/>
          <a:stretch/>
        </p:blipFill>
        <p:spPr>
          <a:xfrm>
            <a:off x="1475640" y="1484640"/>
            <a:ext cx="6265800" cy="3109680"/>
          </a:xfrm>
          <a:prstGeom prst="rect">
            <a:avLst/>
          </a:prstGeom>
          <a:ln w="0">
            <a:noFill/>
          </a:ln>
        </p:spPr>
      </p:pic>
      <p:sp>
        <p:nvSpPr>
          <p:cNvPr id="215" name="CasellaDiTesto 14"/>
          <p:cNvSpPr/>
          <p:nvPr/>
        </p:nvSpPr>
        <p:spPr>
          <a:xfrm>
            <a:off x="404640" y="5085360"/>
            <a:ext cx="84873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Quanto si osserva </a:t>
            </a:r>
            <a:r>
              <a:rPr b="1" lang="it-IT" sz="1600" spc="-1" strike="noStrike" u="sng">
                <a:solidFill>
                  <a:srgbClr val="ff0000"/>
                </a:solidFill>
                <a:uFillTx/>
                <a:latin typeface="Calibri"/>
              </a:rPr>
              <a:t>potrebbe rappresentare una visione parziale dell’effettiva realtà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poiché, come è noto, il settore agricoltura risente della presenza di una forte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componente di lavoro sommers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he coinvolge soprattutto gli immigrati che svolgono lavori stagionali. Tale aspetto lascia intuire che un numero consistente di eventi infortunistici a danno degli immigrati possa non essere intercettato dal sistema prevenzionistico e sani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sellaDiTesto 15"/>
          <p:cNvSpPr/>
          <p:nvPr/>
        </p:nvSpPr>
        <p:spPr>
          <a:xfrm>
            <a:off x="1762200" y="4725000"/>
            <a:ext cx="59216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Fonte: Elaborazioni su dati dei </a:t>
            </a:r>
            <a:r>
              <a:rPr b="0" i="1" lang="it-IT" sz="1000" spc="-1" strike="noStrike">
                <a:solidFill>
                  <a:srgbClr val="000000"/>
                </a:solidFill>
                <a:latin typeface="Calibri"/>
              </a:rPr>
              <a:t>Flussi Informativi INAIL-Regioni (Ultimo Aggiornamento Aprile 202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ttangolo arrotondato 10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isequità nel settore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flipV="1">
            <a:off x="0" y="52344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20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ttangolo 3"/>
          <p:cNvSpPr/>
          <p:nvPr/>
        </p:nvSpPr>
        <p:spPr>
          <a:xfrm>
            <a:off x="392040" y="1298160"/>
            <a:ext cx="8568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Le frequenze di infortuni più alte riguardano lavoratori rumeni nonché lavoratori provenienti dall’Africa centro-settentrionale (che notoriamente vivono in condizioni di forte disagio e godono di minori tutele rispetto ai cittadini europe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Con riferimento all’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tà dei lavoratori stranier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che hanno subito un infortunio emerge che il 71% è di età compresa tra i 25 e 49 anni e la fascia di età per la quale si registra il maggior numero di eventi è quella tra i 45 e 49 anni (16,1). Inoltre, la figura sottostante evidenzia che per i lavoratori stranieri, rispetto agli italiani, si ha un arretramento della distribuzione degli infortuni verso le prime fasce d’età, coinvolgendo soprattutto i lavoratori giovani e in misura minore i lavoratori di età superiore ai 50 ann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magine 7" descr=""/>
          <p:cNvPicPr/>
          <p:nvPr/>
        </p:nvPicPr>
        <p:blipFill>
          <a:blip r:embed="rId2"/>
          <a:stretch/>
        </p:blipFill>
        <p:spPr>
          <a:xfrm>
            <a:off x="1763640" y="3452760"/>
            <a:ext cx="5825520" cy="3432600"/>
          </a:xfrm>
          <a:prstGeom prst="rect">
            <a:avLst/>
          </a:prstGeom>
          <a:ln w="0">
            <a:noFill/>
          </a:ln>
        </p:spPr>
      </p:pic>
      <p:sp>
        <p:nvSpPr>
          <p:cNvPr id="224" name="Rettangolo arrotondato 10"/>
          <p:cNvSpPr/>
          <p:nvPr/>
        </p:nvSpPr>
        <p:spPr>
          <a:xfrm>
            <a:off x="647640" y="7646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isequità nel settore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27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tangolo 1"/>
          <p:cNvSpPr/>
          <p:nvPr/>
        </p:nvSpPr>
        <p:spPr>
          <a:xfrm>
            <a:off x="359640" y="1203840"/>
            <a:ext cx="835272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ai suddetti dati è emersa la criticità relativa allo svolgi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ttività stagio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 quanto i lavoratori stagionali - non maturando sufficiente esperienza lavorativa su una mansione specifica e avendo solitamente una formazione sulla sicurezza sul lavoro superficiale e non consolidata - sono maggiormente esposti ai rischi lavorativi del settore agrico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tte attività stagionali in agricoltura spesso vengono svolte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voratori stranier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 ciò accentua le disuguaglianze di salute. Infatti, numerose evidenze di letteratura descrivono i migranti come soggetti particolarmente fragili ed esposti ai rischi per la salute e la sicurezza negli ambienti di lavoro in misura più significativa rispetto ai lavoratori autocto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 particolare si evidenzia che i lavoratori stranieri sono occupati principalmente in lavori definiti com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rty,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ngerous,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ficult jobs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(sporchi, pericolosi e diffic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i) - e, oltre che essere faticosi e rischiosi, sono caratterizzati dall’essere precari, di bassa qualifica e bassa remunerazione. In genere, lavorano per un numero di ore più elevato rispetto ai lavoratori autoctoni, tenuto conto della loro maggiore disponibilità a orari prolungati o in giorni festiv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tangolo arrotondato 6"/>
          <p:cNvSpPr/>
          <p:nvPr/>
        </p:nvSpPr>
        <p:spPr>
          <a:xfrm>
            <a:off x="647640" y="7250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avoratori stagionali e stran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3316680" y="350100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truttura predefinita">
  <a:themeElements>
    <a:clrScheme name="Struttura predefinita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truttura predefinita">
  <a:themeElements>
    <a:clrScheme name="Struttura predefinita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5</TotalTime>
  <Application>LibreOffice/7.4.7.2$Linux_X86_64 LibreOffice_project/40$Build-2</Application>
  <AppVersion>15.0000</AppVersion>
  <Words>3084</Words>
  <Paragraphs>858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2T10:29:29Z</dcterms:created>
  <dc:creator>Tutan</dc:creator>
  <dc:description/>
  <dc:language>en-US</dc:language>
  <cp:lastModifiedBy>Ignazio Espa  </cp:lastModifiedBy>
  <dcterms:modified xsi:type="dcterms:W3CDTF">2022-09-29T11:33:46Z</dcterms:modified>
  <cp:revision>424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6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62</vt:r8>
  </property>
</Properties>
</file>